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0AC-FE99-4B4B-B50A-59DF6682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5EC-76A3-469D-A9B6-B0E35F32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430-1FCB-458E-A6FF-33842615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2BB-98F6-483D-BC62-4A7D8116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3F7-8A78-44EE-A569-976172C1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139-7DA3-41F4-8FA9-131CF5F8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51F-9936-4E88-98AA-6E8966BD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267-1E13-404E-AFCF-5559B89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179-9695-410A-AB5F-CBDDE51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D93-55EE-4B2E-91BC-1630A21A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A10-5ED2-4C2A-9D61-1EFC5A1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765-C162-4911-9EC5-C412B60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4F9-E94C-4793-8978-1744A0637BF1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8179c"/>
                </a:solidFill>
                <a:latin typeface="Comic Sans MS"/>
              </a:rPr>
              <a:t>Constructing Stem-and-leaf Diagrams</a:t>
            </a:r>
            <a:endParaRPr b="0" lang="en-US" sz="36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44792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df9"/>
                </a:solidFill>
                <a:latin typeface="Comic Sans MS"/>
              </a:rPr>
              <a:t>The aim of this lesson is to be able to make up a stem-and-leaf diagram from a list of numbers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following is a list of computer speeds (in kilobytes/second) of 12 different computer models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4382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24, 43, 16, 12, 33, 19, 24, 30, 28, 25, 18, 4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71800" y="3124080"/>
            <a:ext cx="457200" cy="1923120"/>
            <a:chOff x="2971800" y="3124080"/>
            <a:chExt cx="457200" cy="1923120"/>
          </a:xfrm>
        </p:grpSpPr>
        <p:sp>
          <p:nvSpPr>
            <p:cNvPr id="47" name=""/>
            <p:cNvSpPr/>
            <p:nvPr/>
          </p:nvSpPr>
          <p:spPr>
            <a:xfrm>
              <a:off x="2971800" y="312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1800" y="3657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4114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4648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505320" y="3124080"/>
            <a:ext cx="0" cy="198144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98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895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2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895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4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895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1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124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14800" y="2057400"/>
            <a:ext cx="2286000" cy="457200"/>
            <a:chOff x="4114800" y="2057400"/>
            <a:chExt cx="2286000" cy="457200"/>
          </a:xfrm>
        </p:grpSpPr>
        <p:sp>
          <p:nvSpPr>
            <p:cNvPr id="68" name=""/>
            <p:cNvSpPr/>
            <p:nvPr/>
          </p:nvSpPr>
          <p:spPr>
            <a:xfrm>
              <a:off x="41148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0552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213372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625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65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638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Now we put each row into numerical order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7925040" cy="0"/>
          </a:xfrm>
          <a:prstGeom prst="line">
            <a:avLst/>
          </a:prstGeom>
          <a:ln w="2556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16000" y="121932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Make up a stem-and-leaf diagram from this list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609480"/>
            <a:ext cx="457200" cy="1983960"/>
            <a:chOff x="1066680" y="609480"/>
            <a:chExt cx="457200" cy="1983960"/>
          </a:xfrm>
        </p:grpSpPr>
        <p:sp>
          <p:nvSpPr>
            <p:cNvPr id="84" name=""/>
            <p:cNvSpPr/>
            <p:nvPr/>
          </p:nvSpPr>
          <p:spPr>
            <a:xfrm>
              <a:off x="106668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668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66680" y="1600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533520"/>
            <a:ext cx="0" cy="198108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609480"/>
            <a:ext cx="2057400" cy="1983960"/>
            <a:chOff x="1676520" y="609480"/>
            <a:chExt cx="2057400" cy="1983960"/>
          </a:xfrm>
        </p:grpSpPr>
        <p:sp>
          <p:nvSpPr>
            <p:cNvPr id="90" name=""/>
            <p:cNvSpPr/>
            <p:nvPr/>
          </p:nvSpPr>
          <p:spPr>
            <a:xfrm>
              <a:off x="1676520" y="6094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6  2  9  8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1143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4  4  8  5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1600200"/>
              <a:ext cx="76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  0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7652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  8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19920" y="609480"/>
            <a:ext cx="457200" cy="1983960"/>
            <a:chOff x="6019920" y="609480"/>
            <a:chExt cx="457200" cy="1983960"/>
          </a:xfrm>
        </p:grpSpPr>
        <p:grpSp>
          <p:nvGrpSpPr>
            <p:cNvPr id="95" name=""/>
            <p:cNvGrpSpPr/>
            <p:nvPr/>
          </p:nvGrpSpPr>
          <p:grpSpPr>
            <a:xfrm>
              <a:off x="6019920" y="609480"/>
              <a:ext cx="457200" cy="1983960"/>
              <a:chOff x="6019920" y="609480"/>
              <a:chExt cx="457200" cy="1983960"/>
            </a:xfrm>
          </p:grpSpPr>
          <p:sp>
            <p:nvSpPr>
              <p:cNvPr id="96" name=""/>
              <p:cNvSpPr/>
              <p:nvPr/>
            </p:nvSpPr>
            <p:spPr>
              <a:xfrm>
                <a:off x="6019920" y="609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19920" y="1143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1992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19920" y="213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477120" y="609480"/>
              <a:ext cx="0" cy="198144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83808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09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2  6  8  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137160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143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4  4  5  8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1828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6002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0  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36232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1337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3  8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8440" y="3276720"/>
            <a:ext cx="2479320" cy="459720"/>
            <a:chOff x="568440" y="3276720"/>
            <a:chExt cx="2479320" cy="459720"/>
          </a:xfrm>
        </p:grpSpPr>
        <p:sp>
          <p:nvSpPr>
            <p:cNvPr id="110" name=""/>
            <p:cNvSpPr/>
            <p:nvPr/>
          </p:nvSpPr>
          <p:spPr>
            <a:xfrm>
              <a:off x="5684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49320" y="3276720"/>
              <a:ext cx="0" cy="38088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9320" y="3276720"/>
              <a:ext cx="3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5520" y="3276720"/>
              <a:ext cx="18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= 2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3520" y="38098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Denotes the meaning of the numbers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55ab"/>
                </a:solidFill>
                <a:latin typeface="Comic Sans MS"/>
              </a:rPr>
              <a:t>Total number of numbers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55ab"/>
                </a:solidFill>
                <a:latin typeface="Comic Sans MS"/>
              </a:rPr>
              <a:t>n = 12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27:23Z</dcterms:modified>
  <cp:revision>5</cp:revision>
  <dc:subject/>
  <dc:title>PowerPoint Presentation</dc:title>
</cp:coreProperties>
</file>